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927-A40B-46D5-A975-A2E3EA1D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9BD-331F-43E9-A413-1B9EDAFB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63D-7AD7-4EC4-A3CB-0E2218C0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993-28FA-4E7E-8171-C843CD23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C13-962A-4B8F-BCDD-D41EB43E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0DB-7D31-4D70-AF55-B674382E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2D2-E50B-498E-B001-64BB12C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098-78B1-4267-A7E5-034826E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B9B-F601-44DC-BC57-7B2C7D1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DB9-EA26-4C0B-A686-CF34669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9F4-C535-4CBE-B202-0A3249D4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530-F6F9-4F64-AAA4-CFB95F5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5025-3149-4B2B-ACA2-E0DA3EC213DA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85840" y="1285920"/>
            <a:ext cx="885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00000"/>
                </a:solidFill>
                <a:uFillTx/>
                <a:latin typeface="Comic Sans MS"/>
              </a:rPr>
              <a:t>Тешки метали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Сребро нитрат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у концентрацији од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.1%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Кредеов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пи) се са успехом користио за превен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инфекције ока проузроковаче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гонореје; свако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оворођенчету се укапавала по једна кап овог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аствора у оба ока. Штапићи сребро нитрата с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ористе као каустично средство за отклањањ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хипертрофичних гранулација у ранама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Сублимат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живин хлорид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HgCl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у разблажењу од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1:1000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користи за дезинфекцију предмета и, 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едостатку бољих средстава, за брзу дезинфек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уку хирурга после прањ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Једињење живе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тимеросал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,001-0,004%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користи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о презерватив за вакцине и серу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57120" y="138132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Бој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енцијана виоле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природна боја која се у ка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користи за лечење резистентн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ндидијазе усне дупље новорођенчади (соор)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ив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акридинска боја која се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дехид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лутар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користе з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гумених катетера и оптички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струмената. Инструменти и катетери се ставе 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ворен простор заједно са таблета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ормалдехида из којих активна супстанца полак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арава. Глутаралдехид се користи у виду раствор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%) који мора да се алкалинизује (пХ око 8) да б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активира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140360" y="6093000"/>
            <a:ext cx="3651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500040" y="1775880"/>
            <a:ext cx="821520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азива 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строинтестин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ри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. У већим дозама довод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тре и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а примена и инхалација изазивају метхемоглобинемију и хемоли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локално надражај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баци у дубоку рану, може ослободити кисеоник и направити гасну емболиј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изазива само мучнину и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ада се водоник пероксид попије, треба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лонити гас из желуца назогастричком сукциј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а који има гасну емболију плућне артерије ставити одмах у Тренделенбургов положај и хитно послати у хипербаричну комор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084720" y="63360"/>
            <a:ext cx="27864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85840" y="1535040"/>
            <a:ext cx="885816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офор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у којима је јод везан за високомолекуларни носач, што омогућује већу растворљивост (нпр. повидон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ингестије, јод и јодофоре делују каустично: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ј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, повраћање, пролив, хиповолемиј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и шок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у треба одмах дати раствор скроба или млеко, јер у контакту са њима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од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ање токсичне јодиде; садржај желуца постаје тамно-љубичаст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рименити и активни уга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K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 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оксидационо средств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каустично; у контакту са водом распада се на 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KOH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анган диоксид боји ткива црно-браон.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бог оксидативног дејства изазива метхемоглобинемију, хемолизу, 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јетре и плућ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овање калијум перманганатом се л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чи као тровање база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28760" y="18064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ас хлор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ношење препарата хлора оралним путем има каустично дејство на желудац и једњ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ично налази у водено-алкохолном раствору (37% формалдехида, 12-15% метанола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несе орално, делује каустич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што се апсорбуј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ормалдех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рављу киселину и изазива тешку ацидо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менити натријум-бикарбонат како би се сузбила ацидо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ок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 проме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лечити као код ингестије киселина или ба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595520"/>
            <a:ext cx="8215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енол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каустично у гастроинтестиналном тракт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ЦНС-у делује стимулатив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имптоми и зна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овања 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вулзије, летаргија, ком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цидоза, метхемоглобинем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, 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л у трбух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ерфора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роспе на кожу, пребојава је бледо брао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контаминацију кож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еб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дити са нискомолекуларним полиетилен-гликолом (ПЕТ 300 или 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ексахлорофен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хлор-фенол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з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у каустично, изазивају хемолизу,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бубрега и јетр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епресију ЦНС-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ронична употреба хексахлорофена код беба доводи до вакуоларне енцефалопат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2960" y="1857240"/>
            <a:ext cx="82152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(H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BO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добија из боракса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ристи као отров за бубашваб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локално надражајно (бол у трбуху, повраћање, пролив – зелено-плав садржа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 цео поцрвени, личи на “куваног рака”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па је посебно присутна на табанима, длановима и задњици; после 1-2 дана долази до десквама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оже доћи и до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тећење бубрег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е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јављ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д хроничне изложенос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од тровања борном киселином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тивни угаљ не вреди користити, јер се не везује 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в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исели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одијализа може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и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СЕПТИЦИ КОЈИ СЕ ПРИМЕЊУЈУ У УСНОЈ ДУПЉ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040" y="1643040"/>
            <a:ext cx="84297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септици се користе у оквиру паста за зуб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их препарата ради превенци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рмирањ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актеријског пл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ту сврху користе се бис-бигванидни антисеп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хлорхексидин), кватернерна амонијумо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ињења (цетилпиридинијум и бензалконијум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лорид), феноли, оксидациона средств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ерџенти и амино-алкох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сада је највећу ефикасност показао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спречавање плака антисептици се користе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чности за испирање уста, жвакаће гуме и паст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з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лорхексидин глукон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1440" y="428616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дикације:  лечење периодонтитиса код одрасл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према се у виду раствора за испирање уст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кротаблета које се постављају у гингивалне џеп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36400" y="1413000"/>
            <a:ext cx="8026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нтисептици у стоматологиј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28760" y="17352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доводи до пребојавања језика браон бојом, посебно ако се у храни налазе супстанце које су анјони, а саме имају својство боје. Има горак укус, и код неких пацијената може довести до поремећаја укуса. Веома ретко се јављају улкуси слузокоже желуца и оток паротидне жлез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 антисептици се могу користити за испирање постоперативне ране, за лечење рецидивантних оралних улцерација, за лечење стоматитиса због протезе и за дезинфекцију постављених ортодонстских апара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Цетилпиридинију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802800" y="4143240"/>
            <a:ext cx="403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 се у концентрацији од 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настанак плака и л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ингив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5435640" y="1203480"/>
            <a:ext cx="3316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571680" y="165744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Супозиторијуми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су меки лековити препара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ичног, кугластог, ваљкастог или јајаст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блика који служе за увлачење у отворе т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анус, вагина, нос, уво, р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На собној температури су чвршћи, што 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могућ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примену. У додиру са телом температур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а расте и они се топ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слобађајући лековиту супстан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се могу чувати само на собној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емператури; ако се чувају у хладњак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лаз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 иреверзибилних промена 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у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постају крти и неупотребљ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 обзиром да се лако кваре, чепићи се издају увијени у воштану хартију или станиол. Увек треба скренути пажњу болеснику да пре примене чепића скине станиол и да се чепић не гут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57120" y="1804680"/>
            <a:ext cx="84297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пићи за а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г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у око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ко 3цм а широки око 1ц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ституенси аналних чепића могу бити какаов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ље (Cacao oleum), полиетиленгликоли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меса желатина и глицер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ални супозиторијуми се примењују тако шт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тискују у анус прстом све док не прођу аналн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финктер; знак да је чепић правилно примењен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сте да се не може споља напип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85840" y="1785960"/>
            <a:ext cx="864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ековите супстанце примењујемо у облику чепића он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да желимо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окално дејство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 анални канал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да када желимо да лек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е дражи слузокож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желуца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ли да приликом апсорпције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обиђ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етру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јер венска крв из аналног канала и доње 1/4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ктума отиче у доње хемороидалне вене кој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. iliaca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e et communi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ливају 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у шупљу ве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стероидни антиинфламаторни лекови који имај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ојство да драже слузокожу желуца се чест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њују у облику чепић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Globuli vaginales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4200" y="2413080"/>
            <a:ext cx="8929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епићи за ваги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(Ovula, Vagit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ни су округли или јајасти, већи од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и вагиналних чепића су исти као код аналн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Вагиториа треба да се распадне најдаље за 60 минута п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аплик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Cereoli (Bacilli medicati seu Styli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00040" y="1996920"/>
            <a:ext cx="86439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Ш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тапићи за примену у нос, спољни ушни канал, уретру, ране или синусе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ањи су од аналних чепића, ваљкасти и на крајевим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зашиљ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 је сличан конституенсу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ристе се када је потребно локално дејство л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Штапићи који се уносе у уретру или ране морају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терил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АНТИСЕПТИЦИ И ДЕЗИНФИЦИЈЕН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7120" y="1500120"/>
            <a:ext cx="8429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Дезинфекц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поступак уништав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гетативних облика микроорганизама п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му споре остају неоштећен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се дезинфекција спроводи на кож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лузокожама човека, такав поступа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сепс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сеп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езинфицијенс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у супстанц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пецифично делују на микроорганизм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ршећи денатурацију њихових структурних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ункционалних протеина. Они су сувиш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сични за ткив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примењива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стемски, па се зато користе искључив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28760" y="1810080"/>
            <a:ext cx="850104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кох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више се корист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т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концентрацији од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70%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Њиме се врши чишћењ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же пре примене ињекције и пре хирурш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ервенције (тада се кожа прво очисти бензином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им алкохолом и на крају препаратом ј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Кисел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створ за испирање шупљих органа (мокраћ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шике, вагине, ректума). У виду праха користи с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ипање газа на ранама које су инфициране с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udomonas aeruginos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85840" y="2054160"/>
            <a:ext cx="85723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Фен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Први од фенола је коришћен обични фенол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знат под називом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рбол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глески хирург Листер је први почео ер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сепсе (1864. године) управо употребом карбол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иселине. Раствор карболне киселине (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-5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дезинфекцију инструмената који се 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 стерилисати топлотом и за дезинфекциј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 и зидова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ичну употребу имају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езо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1428840"/>
            <a:ext cx="85010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Оксидациона сред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Ове супстанце врше оксидацију протеин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ама и на тај начин их денатури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перманган", К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разблажењу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:500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ристи за испирање 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дроген"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виду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; не само да оксидиш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ме, већ ствара пену (због ослобађања кисеоника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чисто механички избацује нечистоће из ране. Такођ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ује локално хемостатички. Веома дубоке ране не треб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ирати водоник пероксидом јер ослобођени кисеоник мож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ћи у отворене крвне судове и изазвати гасну емболију. У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сетоструко већем разблажењу 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водоник пероксид с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употребити за испирање усне шупљине и орофарин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е сирћетне киселине са водоник пероксидо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сирћетна кисел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О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з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58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428760" y="1168920"/>
            <a:ext cx="8715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Халогена једињењ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о су супстанције које у свом молекул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ју неки халогени елемент (обично јод или хлор)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ни раствор јода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тинктура јода: 6,5г јода + 2,5г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лијум јодида + 91г концентрованог алкохола) се корис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чишћење коже пре хируршке интервенције,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мазивање околине ране и за брзу припрему рук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ирурга. У новије време за чишћење коже користе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а јода са поливинил-пиролидоном, тз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идон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и пена. Са препаратима јода треба би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зан код мале деце јер ексцесивна апсорпција са кож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довести до хипотире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rrel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akin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ов раст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раствор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тријум-хипохлорит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 Сличну функцију има и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створ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ами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-толуолсулфан хлорамид натријум, 0,25-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5%) који се, осим тога, може користити и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 и подова (1-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274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Детерџен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Детерџенти су површински актив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атерије чији катјонски део продире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мбрану микроорганизма и разара је. Катјонс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о скоро увек садржи кватернерни азот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нзалконијум хлорид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други детерџент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арно користе за дезинфекцију предмет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00040" y="2214720"/>
            <a:ext cx="83581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</a:rPr>
              <a:t>Сапу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Механизам дејства сапуна је исти као к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ерџената, али је овде део молекуле кој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дире у мембрану микроорганизма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ј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пуни су у ствар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натр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ал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оли масних киселин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Користе се за прање 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зинфекцију коже пре хируршке интервенције.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06:30Z</dcterms:modified>
  <cp:revision>160</cp:revision>
  <dc:subject/>
  <dc:title>Slide 1</dc:title>
</cp:coreProperties>
</file>